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0DD0-17C8-4A5E-8EF8-197D7CD7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4B92-B0A8-43B9-AC9A-F4A5B77E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DBF5-D691-4974-9F20-3D75B61D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816A-1278-42B9-92ED-7427A0D76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0C2B0-C5B4-442F-8BB1-2DFC3AE5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B147-45A1-4399-97A4-BB882B19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442D7-9FC2-4EDE-A4DF-9FB7A6DC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557E5-6992-4DE1-8D84-C3CA7406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155A-2F78-48BD-AA60-E52CFC5B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6C99-29F9-4833-86EC-375EB3A0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32D7-4EAF-4229-9C3B-3020D826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A806-2542-4FDE-AFC1-1C52A367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CCE0-8079-4B18-ACB3-63D1D8A6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A7F2D-CB3D-4A42-BCA4-98D00C01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2692-A65B-4C27-AFDC-0C69A22C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DEAB9-8E0A-425E-8073-950F09AC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1237-3AD6-4643-B15A-36BA8471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8AA4-FE13-48E2-8C1A-B67B6A417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BDFE-6AAB-4320-A38B-39C228DB0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E84-F620-4FB3-93F4-65335B13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BD71-4B26-4078-8352-F0E18CBD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BED1-8DF1-4FB5-9CB3-674F4096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1C7A-8291-4707-916A-0CFB699B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4198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80A1-5DBF-4B54-AEF5-D3CC30D5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92520" indent="-210240">
              <a:lnSpc>
                <a:spcPts val="4198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0D6E-E60F-419C-914B-2947FAF563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BF14-F9F9-4426-A761-18C7FE4E9A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41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ts val="36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3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مايو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19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أنشطة المرتبطة بالبيع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209680"/>
            <a:ext cx="374508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الحدود الأئتمان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505320" y="2819520"/>
            <a:ext cx="29066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3470400"/>
            <a:ext cx="3124080" cy="580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4724280"/>
            <a:ext cx="31244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4019400"/>
            <a:ext cx="281952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حسا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52280" y="5391000"/>
            <a:ext cx="289584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1523880"/>
            <a:ext cx="359280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324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فصل بين الأختصاصات المتعارضة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733920" y="1523880"/>
            <a:ext cx="22971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دارة 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1523880"/>
            <a:ext cx="2068560" cy="398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بي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143000"/>
            <a:ext cx="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1523880"/>
            <a:ext cx="2144880" cy="703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قبول 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2430360"/>
            <a:ext cx="2112840" cy="3735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مسلسلة لضمان تسجيل كل طلبات العملا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حدود الأئتمان بواسطة ادارة الأئتما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ديد سعر البيع والخصومات الخاصة بواسطة شخص مسئول فى ادارة البيع وليس فى ادارة الحساب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86200" y="2438280"/>
            <a:ext cx="2112840" cy="29757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ستندات خروج بضاعة اواذون شحن مسلسلة لكل البضائع التى يتم خروجها من المنشأ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م ذلك عن طريق ادارة الشحن او بواسطة حارس البوابة وليس بواسطة عضو من ادارة الحساب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514600"/>
            <a:ext cx="2112840" cy="416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فواتير مسلسلة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تم تحريرها بواسطة ادارة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مراجعة للتأكد من أنه قد تم تحرير فواتير لكل البضائع المبينة بأذون الشح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رقابة صارمة على اشعارات الخصم لضمان اصدارها بأعتماد مناسب مقابل اذون ارتجا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1797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حديد حدود ائتمان لكل عمي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8600" y="222264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طلبات العملاء مع حساباتهم والحصول على موافقة ادارة الأئتمان فى حالة التجاوز اوالعميل الجديد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78600" y="322884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بيع مسلسلة لتسجيل طلبات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38386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كل طلبات البيع قبل شحن البضاع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5880" y="452448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طلبات البيع لأستخراج أذون شحن لخروج البضاع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19920" y="5286240"/>
            <a:ext cx="29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خروج أى بضاعة بدون اذن شحن معتم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06800" y="182556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اذون شحن البضاعة مسلسلة رقميا وان يحتفظ بسجل لها للمطابقة مع فواتير البيع وطلبات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106800" y="3044880"/>
            <a:ext cx="2989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عتماد اذون شحن البضائع عند خروج البضائع وان يتم مراجعتها دوريا للتأكد من اكتمالها وان يتم استخراج فواتير لكل منه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190512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ماد فواتير البيع من الشخص المسئول ومراجعتها مع الطلب الأصلى المعتمد واذن الشح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280" y="3124080"/>
            <a:ext cx="2989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ثبات كل الفواتير واشعارات الخصم فى سجلات يومية المبيعات واستاذ مساعد العملاء واستاذ مراقبة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2280" y="42670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فواتير البيع واشعارات الخصم بواسطة شخص مستقل عن معد الفواتير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52280" y="51814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كل الفواتير واشعارات الخصم مسلسة رقميا, وان يتم مراجعة التسلسل بصفة منظم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لبات 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شح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14300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المبيعات والأشعارات الدائ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18288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شعارات الخصم من شخص مشتقل عن اعمال الشحن او القيد فى دفاتر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274320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أحتفاظ بالفواتير الملغا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32004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إلغاء مستندات الشحن المتعلقة بأى فاتورة يتم الغائ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38098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عتمد الفواتير الملغاة او البضاعة المجانية من الشخص المسئو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72428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فصل الأنواع المختلفة من المبيعات وكذا ضريبة المبيعات فى كل فاتورة بي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جراءات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1143000"/>
            <a:ext cx="0" cy="571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24480" y="1143000"/>
            <a:ext cx="199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تجعا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733920" y="114300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143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يون المعدوم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500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تم اعتماد اعدام الديون المعدومة كتابة وان تتم التسوية فى استاذ حساب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52280" y="2743200"/>
            <a:ext cx="298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تماد اقامة اى دعوى قضائية او اعدام احد الديون بواسطة شخص مسئول وان يكون مستقلا عن عمليات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828800"/>
            <a:ext cx="2989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فحص البضائع التى يتم اعادتها من العملاء وتحديد العيوب الواضحة بها عند استلامها واثباتها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78600" y="2743200"/>
            <a:ext cx="298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داد اشعار خصم لجميع البضائع التى يتم اعادتها من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828800"/>
            <a:ext cx="2989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ستكمال حساب مراقبة استاذ العملاء بصفة منتظمة وان يتم مراجعته مع رصيد كل نوع من ارصدة استاذ العملاء المساعد بواسطة شخص مستق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124080" y="4572000"/>
            <a:ext cx="29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متابعة الديون المتأخرة فى السداد وإعداد قائمة بأعمار الديون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327672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تكون حسابات العملاء مستقلة عن اعمال الشحن او استلام النقد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391464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كشوف حساب الى العملاء بصفة دوري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4080" y="5257800"/>
            <a:ext cx="2989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رسال خطابات للعملاء لتحصيل الديون المتأخر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ختبارات  الرقابة على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15145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1447920"/>
            <a:ext cx="75438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 اختبار للتاكد من تسلسل الفواتير واشعارات الخصم واذون الشحن وطلبات العملا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22096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حقق من وجود اعتماد مناسب والتأكد من وجود التوقيع المناسب والتحقق من انه يتم تطبيق الرقابة مثل مراجعة دقة التسعير وحدود الأئتمان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24289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3124080"/>
            <a:ext cx="746748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بحث عن أدلة لمراجعة الدقة المحاسبية للفواتير وأشعارات الخصم و ضريبة المبيعات وعادة مايتم عن طريق وضع ختم على الفاتورة يتطلب توقيع المراجع والتاكد من تطبيق الرقابة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001000" y="3276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96252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ذون الشحن واذون ارتجاع البضائع للتأكد من مطابقتها مع الفواتير واشعارات الخصم والعكس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01000" y="403848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7242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انه قد تم اجراء تسويات حسابات المراقبة وانه قد تم مراجعتها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5410080"/>
            <a:ext cx="7467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تطبيق الرقابة على اجماليات كل مجموعة وذلك بالبحث عن التوقيعات وتتبع المجموعات من المدخلات الى المخرجات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01000" y="480060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001000" y="5562720"/>
            <a:ext cx="838080" cy="31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جلات المحاسب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4480" y="1905120"/>
            <a:ext cx="2362320" cy="287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دقة الحسابية لدفتر يومية المبيعات ودفتر مرتجعات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ترحيل كل فاتورة الى الأستاذ العام وحساب المراق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قيود اليومية فى دفتر يومية المبيعات ودفتر مرتجعات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429000" y="1371600"/>
            <a:ext cx="2438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واتير المبيعات واشعارات الخص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1905120"/>
            <a:ext cx="2438280" cy="56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تسلسل الرقمى للفواتير والسؤال عن الفواتير الغير موجودة وفحص الفواتير الملغا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صور فواتير البيع واشعارت الخصم مع دفتر يومية المبيعات وحسابات استاذ العملاء ومراجعة تحليل المبيعات فى دفتر يومية المبيعات واعتماد اشعارات الخصم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لأسعار المدرجة فى الفواتير مع قائمة الأسعار المعتمدةوحدود الأئتمان للعمي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دقة الحسابية لفواتير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شعارات الخصم خاصة البنود الكبيرة او الغير عاد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المخاز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1905120"/>
            <a:ext cx="2438280" cy="392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سيتم تغطيتها تفصيلا فى القسم الثانى من هذا الفصل والتالى يستحق عرضه هن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طابقة اذون شحن البضاعة وسجلات البضاعة المنصرفة مع صور فواتير المبيعات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حركة البضائع المنصرفة بداية من الفاتورة الى اذون الشحن الى سجلات المخازن والعكس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بع البضائع المرتجعة من مستندات الرتجاع الى سجلات المخازن واشعارات الخص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جراءات التحقق من  المبيعات والعملا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44280" y="2789280"/>
            <a:ext cx="1800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44280" y="75898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24680" y="5867280"/>
            <a:ext cx="8384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كتما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1371600"/>
            <a:ext cx="22860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سابات المراقب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1905120"/>
            <a:ext cx="2362320" cy="17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ختبار تسوية حسابات المراقبة بالرجوع الى اصول المستندات ( مثل فواتير البيع , سجلات المرتجعات, والنقدية) والتأكد من اجراء التسويات المناسب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5867280"/>
            <a:ext cx="1219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جود/الحدو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ق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267080" y="5867280"/>
            <a:ext cx="8384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قط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200400" y="5867280"/>
            <a:ext cx="762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يي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76520" y="5867280"/>
            <a:ext cx="12189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قوق الألتزام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5867280"/>
            <a:ext cx="129564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والأفصاح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1905120"/>
            <a:ext cx="2438280" cy="469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لب فى مستوى المبيعا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مستويات المبيعات خلال العام على اساس شهر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ذات الفترة من العام الساب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قارنة اخر شهر فى العام مع اول شهر فى العام التالى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تشير التقلبات من شهرلأخر الى سوء تبويب المبيعات  بين الأشهر  اوحذف مبيعات اووجود مبيعات ذات قيمة عالي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 algn="r" rtl="1"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ى حالة وجودتقلبات غير مبررة يجب اجراء فحص مستند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1371600"/>
            <a:ext cx="24382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فصا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905120"/>
            <a:ext cx="243828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 algn="r" rtl="1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ظهار المبيعات طبقا لنوعية النشاط والموقع الجغرافى للأسوا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حادى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عش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هداف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ختبار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رق</a:t>
            </a: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عض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جراءات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تحق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76760" y="1295280"/>
            <a:ext cx="22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تناول هذا الفص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8240" y="1600200"/>
            <a:ext cx="348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هداف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تبارات الرقابة الداخ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جراءات التحق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حلي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81400" y="3581280"/>
            <a:ext cx="33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لدورات المحاسبية  التال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36920" y="3733920"/>
            <a:ext cx="293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تري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خزو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ور والمرتب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قد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صول طويلة الأج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واجراءات واختبارات الرقابة الداخلية وبعض اجراءات التحقق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605640" y="129528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هد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2057400"/>
            <a:ext cx="6553440" cy="113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فهم المبادئ العامة للأختبارات فى كل دورة </a:t>
            </a:r>
            <a:r>
              <a:rPr b="0" lang="ar-SA" sz="1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دلا من حفظ قوائم طويلة منه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28560" y="1447920"/>
            <a:ext cx="74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اذا نحتاج الى رقابة داخلية على المبيعات والمشتريات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437760" y="2057400"/>
            <a:ext cx="107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بب المخاطر التى قد تحدث فى حالة عدم وجود مثل هذه الرقابة على سبيل المثا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5562720"/>
            <a:ext cx="762120" cy="1066680"/>
          </a:xfrm>
          <a:custGeom>
            <a:avLst/>
            <a:gdLst>
              <a:gd name="textAreaLeft" fmla="*/ 101880 w 762120"/>
              <a:gd name="textAreaRight" fmla="*/ 660240 w 762120"/>
              <a:gd name="textAreaTop" fmla="*/ 186480 h 1066680"/>
              <a:gd name="textAreaBottom" fmla="*/ 77328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مثلة على مخاطر عدم وجود رقابة على المبيعات؟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72400" y="1371600"/>
            <a:ext cx="106668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رقيم اوامر البي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16002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48680" y="1295280"/>
            <a:ext cx="22852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ها وعدم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تكرار تنفيذ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768600" y="1295280"/>
            <a:ext cx="53172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ضياع فرصة تحقيق ايرا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سداد قيمة المشتريات التى تكرر استلامهم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160020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772400" y="2514600"/>
            <a:ext cx="10666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مطابقة اذون الشحن مع الفواتي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28195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71040" y="2514600"/>
            <a:ext cx="28692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د لا نستطيع ارسال فواتير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ى العملاء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3124080"/>
            <a:ext cx="196236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حرير فواتير بضائع لم يستلمها ال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2577960"/>
            <a:ext cx="365760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رضاء العميل نتيجة ارسال فواتير خاطئة وتحمل تكاليف ادارية لاداعى ل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حصيل قيم البضاعة اوالخدمة نتيجة عدم اصدار فاتور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9880" y="2971800"/>
            <a:ext cx="838440" cy="304920"/>
          </a:xfrm>
          <a:prstGeom prst="leftArrow">
            <a:avLst>
              <a:gd name="adj1" fmla="val 50000"/>
              <a:gd name="adj2" fmla="val 6874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0120" y="3962520"/>
            <a:ext cx="12952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تجميع الفواتير ومراجعتها حسابي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0572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4114800"/>
            <a:ext cx="188604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قدان الفواتير اوتسجيلها بقيمتها الخاطئة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4114800"/>
            <a:ext cx="36576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 وجود ارصدة دائنة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مالية غير صحيح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86200" y="42670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0120" y="5334120"/>
            <a:ext cx="12952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دم الأحتفاظ بدفتر استاذ مساعد للعملا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05720" y="5638680"/>
            <a:ext cx="838080" cy="304920"/>
          </a:xfrm>
          <a:prstGeom prst="leftArrow">
            <a:avLst>
              <a:gd name="adj1" fmla="val 50000"/>
              <a:gd name="adj2" fmla="val 6871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43360" y="5337000"/>
            <a:ext cx="188604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ظهور اجمالى المديونية دون تحديد رصيد كل عميل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320" y="5410080"/>
            <a:ext cx="365760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تتبع الأرصدة التى مضى تاريخ استحقاقه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عوبة المطابقة مع العميل فى حالة عدم الأتفا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9880" y="5562720"/>
            <a:ext cx="838440" cy="304560"/>
          </a:xfrm>
          <a:prstGeom prst="leftArrow">
            <a:avLst>
              <a:gd name="adj1" fmla="val 50000"/>
              <a:gd name="adj2" fmla="val 68824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8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أهداف الرقابة الداخلية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1905120"/>
            <a:ext cx="5929560" cy="448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جميع المعاملات المعتمدة قد تم تسجيلها فى الوقت الصحيح وبالقيم الصحيحة فى الحسابات الصحيحة وفى الفترة المحاسبية الخاصة به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من له حق التعامل مع الأصول هو الذى يقوم بذل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ه قد تم مقارنة ماتم تسجيله بالدفاتر مع الموجود فعل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4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وجه التشابه بين الأجراءات الرقابية على المبيعات والمشتريات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1752480"/>
            <a:ext cx="8305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تندات مسلسلة مع مرجعة لاحقة للتسلسل لضمان الأكتما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9092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المجموعات واجماليات رقابية اخرى فى مرحلة الأدخال مع مراجعة لاحقة للمخرجات للتأكد من الأكتمال والد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358128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حسابات المراقبة والتاكد من مطابقتها مع دفتر الأستاذ العام والأستاذ المساع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4530600"/>
            <a:ext cx="83055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سلطات اعتماد مناسبة عن طريق توقيع الأشخاص المسئولين لانشاء وادخال وتوزيع المستندات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5181480"/>
            <a:ext cx="809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تشمل اختبارات الرقابة الحصول على ادلة أن الأجراءات السابق الأشارة اليها قد تم تطبيقها وفى العادة يبحث المراجع عن دليل يوضح ان اجراء الرقابة قد تم تنفيذه مثل التوقي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0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المخاطر الرئيسية المتعلقة بدورتى  المبيعات والمشتريات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14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7238880" y="650700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752480"/>
            <a:ext cx="8305560" cy="100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شل دورة المبيعات ودورة المشتريات فى تحقيق اهداف المنشأة والتى قد ينتج عنها خسائر مالية  أو تا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259092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راء بضائع غالية الثمن اوغير مناسبة مما يؤدى الى الأنحراف عن الموازنة التقديرية و تحقيق خسائر مالي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58128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خفاق فى شراء بضائع او خدمات فى الوقت المناسب والذى قد يؤدى الى عدم الأنتهاء فى المواعيد المطلوب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4530600"/>
            <a:ext cx="83055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1160" indent="-281160" algn="r" rtl="1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دوث مشتريات اوعمليات بيع غير سليمة مما قد يؤدى الى خسائر مالية أو حدوث تأثير سلبى على سمعة المنشأ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06:08Z</dcterms:created>
  <dc:creator>agamal</dc:creator>
  <dc:description/>
  <dc:language>en-US</dc:language>
  <cp:lastModifiedBy>agamal</cp:lastModifiedBy>
  <dcterms:modified xsi:type="dcterms:W3CDTF">2003-05-02T23:10:34Z</dcterms:modified>
  <cp:revision>8</cp:revision>
  <dc:subject/>
  <dc:title>أهداف واجراءات واختبارات الرقابة الداخلية وبعض اجراءات التحقق</dc:title>
</cp:coreProperties>
</file>